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6BD-93DC-48BB-AA42-40B9E0EF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1C0-8866-439D-8D41-3EB9E72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7F2-A778-465E-BA23-536DBA2C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45D-B065-4E09-9037-EBD723AC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477-49AF-4D43-8FEC-28675171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059-2071-4C1D-A122-6764B490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CDD-9FB7-4F02-9070-B9C60E38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655-D540-4303-9DEB-A6FE1385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373-4416-4A81-9F35-DEB9E754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51B-EE9A-43F9-A284-F9A3F110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604-A431-43B9-937A-036B2395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EFC-A0F4-4855-9C34-4380045C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AB2-4CD8-48C4-AD97-8CDEC63CBD2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NEE</dc:creator>
  <dc:description/>
  <dc:language>en-US</dc:language>
  <cp:lastModifiedBy>Guest</cp:lastModifiedBy>
  <dcterms:modified xsi:type="dcterms:W3CDTF">2012-03-08T12:46:27Z</dcterms:modified>
  <cp:revision>2</cp:revision>
  <dc:subject>CNEE</dc:subject>
  <dc:title>CNEE</dc:title>
</cp:coreProperties>
</file>